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4EE4-2410-4942-8937-4F4CF0F66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B3B8-DA11-4EA7-8F33-614EC82D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0A37-AA29-4822-9A9A-1CA178FB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74B1-87B1-4C82-A667-9ED4E292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31A4-2E9B-4277-B8E6-653A32EA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143A-AB17-47F5-83D3-8CDFF6E4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7C97-0948-41E5-954F-47015565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2D9B-77E8-412E-A792-06917861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E87A-1F50-43D1-A9A1-FC483E64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F766-51AE-4834-952C-CFCDFE01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3A95-38B9-45BA-ADB2-5E690EE4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8B37-8F75-4918-8788-E50C087E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42F868-04C6-4C6C-8F1C-8C17F60E1E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pt_Voiceless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ppt_Voiceless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57280" y="274320"/>
            <a:ext cx="452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7T15:46:40Z</dcterms:created>
  <dc:creator>Fred Buchner</dc:creator>
  <dc:description/>
  <dc:language>en-US</dc:language>
  <cp:lastModifiedBy>Fred Buchner</cp:lastModifiedBy>
  <dcterms:modified xsi:type="dcterms:W3CDTF">2016-06-27T15:49:11Z</dcterms:modified>
  <cp:revision>1</cp:revision>
  <dc:subject/>
  <dc:title>PowerPoint Presentation</dc:title>
</cp:coreProperties>
</file>