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1CC-D807-4CD4-80D6-5FAA2EC0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7FF-E3CF-4D21-B20A-BBE73625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A5F-5127-40EF-9FF3-201D6135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DFB-9E06-48A1-B315-3FAF35D6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771-D1A5-4543-9F17-F9C61D6E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004-467E-4485-BBEB-B4F90B66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054-EA72-4141-87DB-C25E51C7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043-6FBD-4AD5-83D7-C83E046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E7D-366C-4EA7-A47B-0C55C57A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E12-72A0-4047-B612-37251EF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AF5-9B2C-4B9F-B3D2-0A15D19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FA6-838E-4F55-8809-4623475F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8A1B1-F8EC-468B-8FD4-B0B9E8F5A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pt_Voiceles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ppt_Voiceles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57280" y="274320"/>
            <a:ext cx="45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7T15:46:40Z</dcterms:created>
  <dc:creator>Fred Buchner</dc:creator>
  <dc:description/>
  <dc:language>en-US</dc:language>
  <cp:lastModifiedBy>Fred Buchner</cp:lastModifiedBy>
  <dcterms:modified xsi:type="dcterms:W3CDTF">2016-06-27T15:49:11Z</dcterms:modified>
  <cp:revision>1</cp:revision>
  <dc:subject/>
  <dc:title>PowerPoint Presentation</dc:title>
</cp:coreProperties>
</file>