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360-1336-44E0-B8B7-CC83200A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0EB-3AFE-429B-8EAF-BBBE19BE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2E1-C923-4A91-9EFF-34883888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EBC-8696-48F1-90A5-B3EED813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069-A6D2-4810-91DF-4C60178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361-788B-4CEF-A0AC-282C142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EC6E-D564-4D53-86CB-D6EEB91A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0AA-FC10-425D-8B3B-4DC1D819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FE-899D-4332-848F-579DC13F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FF4-686D-474D-A946-7CC0EAD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363-9CF0-42C3-A647-BE6EEAF9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738-64D4-4BEB-9C4F-B6F347F0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BE7C3-5EE8-4790-B2E5-DA3023639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pt_Voiceles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ppt_Voiceless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57280" y="274320"/>
            <a:ext cx="45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15:46:40Z</dcterms:created>
  <dc:creator>Fred Buchner</dc:creator>
  <dc:description/>
  <dc:language>en-US</dc:language>
  <cp:lastModifiedBy>Fred Buchner</cp:lastModifiedBy>
  <dcterms:modified xsi:type="dcterms:W3CDTF">2016-06-27T15:49:11Z</dcterms:modified>
  <cp:revision>1</cp:revision>
  <dc:subject/>
  <dc:title>PowerPoint Presentation</dc:title>
</cp:coreProperties>
</file>